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4.4FinalRepor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6" descr="4.4FinalRepor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58920" y="320040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fter greeting them, he related one by one the things that God had done among the Gentiles through his ministry. And when they heard it, they glorified God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1:19-20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0" descr="4.4FinalRepor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REPORTS TO THE CHURCH LEADER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LISTENS TO THEIR ADVIC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CONTINUES WITH HIS MIS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4.4FinalRepor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0T13:49:01Z</dcterms:modified>
  <cp:revision>59</cp:revision>
  <dc:subject/>
  <dc:title>PowerPoint Presentation</dc:title>
</cp:coreProperties>
</file>