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.6Free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3526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But peter said to him, “may your silver perish with you, because you thought you could obtain the gift of god with money!”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2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EVERYONE WAS AMAZED BY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’S MAGIC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WAS AMAZED BY GOD’S POWER AND BELIEVED IN JES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TRIED TO BUY THE FREE GIFT OF GOD’S POWER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6:37Z</dcterms:modified>
  <cp:revision>48</cp:revision>
  <dc:subject/>
  <dc:title>PowerPoint Presentation</dc:title>
</cp:coreProperties>
</file>