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2.5WillingtoRunDie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2.5WillingtoRunDie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463840" y="316548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"/>
                <a:ea typeface="Arial"/>
              </a:rPr>
              <a:t>And Saul approved of his execution. And there arose on that day a great persecution against the church in Jerusalem, and they were all scattered throughout the regions of Judea and Samaria, except the apostles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"/>
                <a:ea typeface="Arial"/>
              </a:rPr>
              <a:t>Acts 8:1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2.5WillingtoRunDie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TEPHEN SAW THE GLORY OF GOD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TEPHEN DIED FOR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— </a:t>
            </a: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AND LIKE — JESUS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ERSECUTION BEGAN AND TH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CHURCH SCATTERED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2.5WillingtoRunDie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22:56Z</dcterms:modified>
  <cp:revision>46</cp:revision>
  <dc:subject/>
  <dc:title>PowerPoint Presentation</dc:title>
</cp:coreProperties>
</file>