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4" descr="4.2ClingingOnlytoTruth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4" descr="4.2ClingingOnlytoTruth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463840" y="2895480"/>
            <a:ext cx="815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For through Him we both have access in one Spirit to the Father. So then you are no longer strangers and aliens, but you are fellow citizens with th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saints and members of th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household of God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Ephesians 2:18-19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8" descr="4.2ClingingOnlytoTruth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86840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 COMMITTED HIS LIFE AND WORK TO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GOD’S KINGDOM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OME OF THE JEWS REJECTED THE GOSPEL IN FAVOR OF THEIR RELIGIOUS TRADITIONS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OME OF THE GREEKS VIOLENTLY REJECTED THE GOSPEL IN FAVOR OF THEIR GODS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4.2ClingingOnlytoTruth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20:00:04Z</dcterms:modified>
  <cp:revision>56</cp:revision>
  <dc:subject/>
  <dc:title>PowerPoint Presentation</dc:title>
</cp:coreProperties>
</file>