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3.3UsThem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3.3UsThem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463840" y="297180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Light"/>
                <a:ea typeface="Arial"/>
              </a:rPr>
              <a:t>So Peter opened his mouth and said: “Truly I understand that God shows no partiality,</a:t>
            </a:r>
            <a:r>
              <a:rPr b="1" lang="en-US" sz="3600" spc="-1" strike="noStrike">
                <a:solidFill>
                  <a:srgbClr val="ffffff"/>
                </a:solidFill>
                <a:latin typeface="Helvetica Light"/>
                <a:ea typeface="Arial"/>
              </a:rPr>
              <a:t> </a:t>
            </a:r>
            <a:r>
              <a:rPr b="0" lang="en-US" sz="3600" spc="-1" strike="noStrike">
                <a:solidFill>
                  <a:srgbClr val="ffffff"/>
                </a:solidFill>
                <a:latin typeface="Helvetica Light"/>
                <a:ea typeface="Arial"/>
              </a:rPr>
              <a:t>but in every nation anyone who fears Him and does what is right is acceptable to Him.”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Light"/>
                <a:ea typeface="Arial"/>
              </a:rPr>
              <a:t>Acts 10:34-35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1" descr="3.3UsThem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elvetica Light"/>
              </a:rPr>
              <a:t>PETER SAW A VISION TELLING HIM TO EAT FORMERLY RESTRICTED ANIMAL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elvetica Light"/>
              </a:rPr>
              <a:t>PETER PREACHED TO THE GENTILES; THEY WERE SAVED AND RECEIVED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elvetica Light"/>
              </a:rPr>
              <a:t>THE HOLY SPIRIT</a:t>
            </a: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elvetica Light"/>
              </a:rPr>
              <a:t>THE APOSTLES GLORIFIED GOD FOR GRANTING SALVATION TO THE GENTILES</a:t>
            </a: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1" descr="3.3UsThem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40:56Z</dcterms:modified>
  <cp:revision>51</cp:revision>
  <dc:subject/>
  <dc:title>PowerPoint Presentation</dc:title>
</cp:coreProperties>
</file>