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.4DevotedtotheWord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58920" y="3581280"/>
            <a:ext cx="929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they devoted themselves to the apostles' teaching and the fellowship, to the breaking of bread and the prayers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:4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854360" y="1981080"/>
            <a:ext cx="944856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THEY (THE CHURCH) DEVOTED THEMSELVE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TO THE APOSTLES’ TEACHING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FULFILLING THE GREAT COMMISSION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0T19:48:57Z</dcterms:modified>
  <cp:revision>36</cp:revision>
  <dc:subject/>
  <dc:title>PowerPoint Presentation</dc:title>
</cp:coreProperties>
</file>