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3.2ChangeYouCanTrust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3.2ChangeYouCanTrust2.jpg"/>
          <p:cNvPicPr/>
          <p:nvPr/>
        </p:nvPicPr>
        <p:blipFill>
          <a:blip r:embed="rId1"/>
          <a:stretch/>
        </p:blipFill>
        <p:spPr>
          <a:xfrm>
            <a:off x="0" y="0"/>
            <a:ext cx="13004640" cy="9753480"/>
          </a:xfrm>
          <a:prstGeom prst="rect">
            <a:avLst/>
          </a:prstGeom>
          <a:ln w="0">
            <a:noFill/>
          </a:ln>
        </p:spPr>
      </p:pic>
      <p:sp>
        <p:nvSpPr>
          <p:cNvPr id="78" name="TextBox 2"/>
          <p:cNvSpPr/>
          <p:nvPr/>
        </p:nvSpPr>
        <p:spPr>
          <a:xfrm>
            <a:off x="1930320" y="2257560"/>
            <a:ext cx="92203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To put off your old self, which belongs to your former manner of life and is corrupt through deceitful desires, and to be renewed in the spirit of your minds, and to put on the new self, created after the likeness of God in true righteousness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nd holines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Ephesians 4:22-24</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 descr="3.2ChangeYouCanTrust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FTER HIS CONVERSION, SAUL IMMEDIATELY BEGAN TO PREACH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SLOWLY, BOTH THE CHRISTIANS AND JEWISH LEADERS BECAME CONVINCED THE CHAN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IN SAUL WAS REAL</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SAUL’S HEART WAS CHANGED, BUT HIS BOLD PERSONALITY WAS NOT</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0" descr="3.2ChangeYouCanTrust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36:15Z</dcterms:modified>
  <cp:revision>50</cp:revision>
  <dc:subject/>
  <dc:title>PowerPoint Presentation</dc:title>
</cp:coreProperties>
</file>