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8" descr="4.6NeverAlone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8" descr="4.6NeverAlon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921040" y="2895480"/>
            <a:ext cx="7238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Helvetica Light"/>
              </a:rPr>
              <a:t>Keep your life free from love of money, and be content with what you have, for He has said, “I will never leave you nor forsake you.”</a:t>
            </a:r>
            <a:r>
              <a:rPr b="1" lang="en-US" sz="3200" spc="-1" strike="noStrike">
                <a:solidFill>
                  <a:srgbClr val="d9d9d9"/>
                </a:solidFill>
                <a:latin typeface="Helvetica Light"/>
              </a:rPr>
              <a:t> </a:t>
            </a:r>
            <a:r>
              <a:rPr b="0" lang="en-US" sz="3200" spc="-1" strike="noStrike">
                <a:solidFill>
                  <a:srgbClr val="d9d9d9"/>
                </a:solidFill>
                <a:latin typeface="Helvetica Light"/>
              </a:rPr>
              <a:t>So we can confidently say, “The Lord is my helper; I will not fear; what can man do to me?”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Helvetica Light"/>
              </a:rPr>
              <a:t>Hebrews 13:5-6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2" descr="4.6NeverAlon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d9d9d9"/>
                </a:solidFill>
                <a:latin typeface="Helvetica Light"/>
              </a:rPr>
              <a:t>PAUL STANDS ALONE BEFORE FESTU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d9d9d9"/>
                </a:solidFill>
                <a:latin typeface="Helvetica Light"/>
              </a:rPr>
              <a:t>PAUL TESTIFIES ALONE BEFOR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d9d9d9"/>
                </a:solidFill>
                <a:latin typeface="Helvetica Light"/>
              </a:rPr>
              <a:t>KING AGRIPPA</a:t>
            </a: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d9d9d9"/>
                </a:solidFill>
                <a:latin typeface="Helvetica Light"/>
              </a:rPr>
              <a:t>GOD NEVER LEFT PAUL ALONE</a:t>
            </a: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1" descr="4.6NeverAlon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d9d9d9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d9d9d9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d9d9d9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0T19:37:28Z</dcterms:modified>
  <cp:revision>59</cp:revision>
  <dc:subject/>
  <dc:title>PowerPoint Presentation</dc:title>
</cp:coreProperties>
</file>