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1.7MineYours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1.7MineYours2.jpg"/>
          <p:cNvPicPr/>
          <p:nvPr/>
        </p:nvPicPr>
        <p:blipFill>
          <a:blip r:embed="rId1"/>
          <a:stretch/>
        </p:blipFill>
        <p:spPr>
          <a:xfrm>
            <a:off x="0" y="0"/>
            <a:ext cx="13004640" cy="9753480"/>
          </a:xfrm>
          <a:prstGeom prst="rect">
            <a:avLst/>
          </a:prstGeom>
          <a:ln w="0">
            <a:noFill/>
          </a:ln>
        </p:spPr>
      </p:pic>
      <p:sp>
        <p:nvSpPr>
          <p:cNvPr id="78" name="TextBox 2"/>
          <p:cNvSpPr/>
          <p:nvPr/>
        </p:nvSpPr>
        <p:spPr>
          <a:xfrm>
            <a:off x="1854360" y="3116160"/>
            <a:ext cx="9296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Now the full number of those who believed were of one heart and soul, and no one said that any of the things that belonged to him was his own, but they had everything in common.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Acts 4:32</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1.7MineYours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43716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GENEROUS PEOPLE GIVE AWAY AND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SELL THE EXCES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THE PEOPLE SOLD THEIR ITEMS, NOT SOMEONE ELSE’S ITEM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IT WAS PERSONAL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GENEROUS PEOPLE ARE PEOPLE WHO MEET REAL NEEDS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1.7MineYours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262626"/>
                </a:solidFill>
                <a:latin typeface="Arial"/>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262626"/>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262626"/>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262626"/>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262626"/>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262626"/>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262626"/>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ana Employee</cp:lastModifiedBy>
  <dcterms:modified xsi:type="dcterms:W3CDTF">2016-07-22T19:34:19Z</dcterms:modified>
  <cp:revision>42</cp:revision>
  <dc:subject/>
  <dc:title>PowerPoint Presentation</dc:title>
</cp:coreProperties>
</file>