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2.7PhilipandtheEthiopian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2.7PhilipandtheEthiopian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006640" y="2597040"/>
            <a:ext cx="9067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Now the passage of the Scripture that he was reading was this: “Like a sheep He was led to the slaughter and like a lamb before its shearer is silent, so He opens not His mouth. In His humiliation justice was denied Him. Who can describe His generation? For His life is taken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way from the earth.”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cts 8:32-33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2.7PhilipandtheEthiopian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98108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GOD SENT PHILIP TO MEET THE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ETHIOPIAN MAN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HILIP EXPLAINED THE GOSPEL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FROM SCRIPTURE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 ETHIOPIAN MAN BELIEVED AND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WAS BAPTIZED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2.7PhilipandtheEthiopian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31:13Z</dcterms:modified>
  <cp:revision>48</cp:revision>
  <dc:subject/>
  <dc:title>PowerPoint Presentation</dc:title>
</cp:coreProperties>
</file>