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4.3OneMoreThi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5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30481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I do not account my life of any value nor as precious to myself, if only I may finish my course and the ministry that I received from the Lord Jesus, to testify to the gospel of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 grace of God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0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MINISTRY BROUGHT LIF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WOLVES WILL BR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DESTRUCTION AND DIVI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DISCIPLES WERE CHALLENGED TO FOLLOW PAUL’S EXAMPL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27:42Z</dcterms:modified>
  <cp:revision>57</cp:revision>
  <dc:subject/>
  <dc:title>PowerPoint Presentation</dc:title>
</cp:coreProperties>
</file>