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1.3PowerfulDangerou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35053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For the promise is for you and for your children and for all who are far off, everyone whom the Lord our God calls to Himself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3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WE KILLED CHRIS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HE (JESUS) HAS RISEN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LET EVERYONE KNOW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48:20Z</dcterms:modified>
  <cp:revision>36</cp:revision>
  <dc:subject/>
  <dc:title>PowerPoint Presentation</dc:title>
</cp:coreProperties>
</file>