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.6AwesomeSign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7670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nd awe came upon every soul, and many wonders and signs were being done through the apostle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3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2057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WERE AWESOME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IMPACTED MAN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HELPED G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ORD OU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0:28Z</dcterms:modified>
  <cp:revision>42</cp:revision>
  <dc:subject/>
  <dc:title>PowerPoint Presentation</dc:title>
</cp:coreProperties>
</file>