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.2SpiritArriv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082960" y="34290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nd they were all filled with the Holy Spirit and began to speak in other tongues as the Spirit gave them utterance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HOLY SPIRIT ARRIV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SPEAKING A DIFFERENT LANGUAG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REACTION OF THE JEW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44:19Z</dcterms:modified>
  <cp:revision>35</cp:revision>
  <dc:subject/>
  <dc:title>PowerPoint Presentation</dc:title>
</cp:coreProperties>
</file>