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9" descr="4.7FriendsThatWon'tQui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3073320" y="3581280"/>
            <a:ext cx="716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 man of many companions may come to ruin, but there is a friend who sticks closer than a brother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Proverbs 18:2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SETS OFF FOR ROME WITH LUKE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KNEW THE SHIP WOULD FACE DISASTER AND WARNED THE OTHER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EVEN WHEN THINGS LOOKED THE WORST, PAUL REFUSED TO STOP TRUSTING GOD AND ENCOURAGING THE OTHER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AND LUKE FINALLY ARRIVED IN ROME AND WERE ENCOURAGED BY THE CHRISTIAN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PRESENTED THE GOOD NEWS ABOUT JESUS TO THE JEWISH PEOPLE IN ROME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CONTINUED TO PROCLAIM THE GOSPEL IN ROME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1:05:01Z</dcterms:modified>
  <cp:revision>62</cp:revision>
  <dc:subject/>
  <dc:title>PowerPoint Presentation</dc:title>
</cp:coreProperties>
</file>